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F0D-68CB-488E-8C9E-B92F77EC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E28-3B2D-4186-B8BF-9A066065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931-9D11-4C24-B0A4-F41D1F45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D1-6428-43C8-93DA-C98CF5EC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B45-55E0-4099-9506-8292D63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DAA-010D-4CFC-B9B6-5D57896E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6FE-7BF2-47A5-A897-F963517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B73-86EE-44A2-AB85-2E468C7E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AF4-1F25-48A7-AD70-E70F851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673-5527-4F73-B054-94029A4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20B-6FBC-4AFC-86DF-660C93A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728-1816-4198-A860-92DDF40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823-6CF6-49D1-AB0E-0DE6B7BE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farm4.static.flickr.com/3269/2354184427_37fbdc2e50.jpg&amp;imgrefurl=http://www.flickr.com/photos/ikulyl/2354184427/&amp;usg=__th2U5n6X-lCDSONqrtWzuJRYl8Q=&amp;h=341&amp;w=500&amp;sz=76&amp;hl=es&amp;start=21&amp;tbnid=jCzmZ98LA0G3AM:&amp;tbnh=89&amp;tbnw=130&amp;prev=/images%3Fq%3DHARD%2BWORK%26gbv%3D2%26ndsp%3D20%26hl%3Des%26sa%3DN%26start%3D2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yczoom.com/getimage.php?f=ap6ZoJatwnR_Y2dpa5qzvK4,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341360"/>
            <a:ext cx="597708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DJECTIV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57920" cy="3038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9640" y="49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141560"/>
            <a:ext cx="6480000" cy="4574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1000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41560" y="476280"/>
            <a:ext cx="5261040" cy="568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50760" y="47628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640" y="193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549360"/>
            <a:ext cx="5468760" cy="590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0920" y="-22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4480" y="752400"/>
            <a:ext cx="3515040" cy="535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5280" y="1206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1160" y="1171440"/>
            <a:ext cx="6781680" cy="451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89000"/>
            <a:ext cx="76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148280" cy="2840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14800" y="328464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58000" y="625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549360"/>
            <a:ext cx="4321080" cy="326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00720" y="3375000"/>
            <a:ext cx="4643280" cy="347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02720" y="4809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019160"/>
            <a:ext cx="6096240" cy="481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4000" y="-22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809880" cy="315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419112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86360" y="338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58:17Z</dcterms:created>
  <dc:creator>I.E.S. FEDERICO GARCIA LORCA</dc:creator>
  <dc:description/>
  <dc:language>en-US</dc:language>
  <cp:lastModifiedBy>rmi</cp:lastModifiedBy>
  <dcterms:modified xsi:type="dcterms:W3CDTF">2009-05-29T17:13:31Z</dcterms:modified>
  <cp:revision>3</cp:revision>
  <dc:subject/>
  <dc:title>Diapositiva 1</dc:title>
</cp:coreProperties>
</file>